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52A-C97E-4E57-A8C1-5E77F145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784-C9CC-440C-A9BE-F3969900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CAF-3762-437C-B52E-AE14E9AA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EEE-D93B-4FCB-B485-FF13F427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BB3C-A5BB-4ACA-B133-F28FDDD7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F1BA-1B00-444F-BDE2-6F9B3CBC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1A08-067A-4B1B-A32F-586B4A2B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14D-59A6-4EA3-9538-26002D3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1A8B-9203-4644-B770-B31D50AF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BFA8-0EB0-4CD5-99E2-79D82750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D568-9F78-4522-BC4E-1753D56D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31E-5E73-47D0-80B9-2DDDCF25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EC08-A415-4AEF-98F3-1D34B6AA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6ECB-8A2D-4375-99F7-293D8CC5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7145-FF71-4CD7-93EE-B404C190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6E2F-7622-49B0-9EB4-E830FB59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3501-49DE-4DF1-BFFB-8126E91A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34165-84D0-49F4-94E1-82E00873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30241-E73A-475C-AA28-1C5F3C60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D8DF8-F474-4EEC-82C9-03E4B6C4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0F849-83BE-493E-B578-7A1935BF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180B7-5850-4BF5-9A38-FC1715E4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544-04AC-46B4-A498-E830AFC1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A4C75-715B-4409-BDA7-DB7D9E54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D14E4-A63A-4FD6-9E13-A294188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209AB-CB0C-45C2-8230-3865FE9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FEE6D-7559-43D3-BCD0-DEF92909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CEBF8-55CB-47F0-A2EE-C77C4F18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86C76-6546-4A00-99DB-8D568860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1FBF8-8B1F-4CB1-A38A-65391FCC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16F02-3916-423A-BE59-2D1C388C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703D8-7A72-4C9C-8CFC-FE609F8A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D26B3-7BED-4B36-8D6B-0F7D52AE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DEB-7528-4134-BA39-AE488514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D501A-B712-4289-935A-88B60DFB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52A4-2261-4029-991A-55C90BDB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E045-7969-4A76-A124-76C13E5D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B0325-1668-425C-AC9D-2A5D6F3F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E6BF-833A-4F97-A041-8BEEF0B5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0000-A190-4F61-9CF5-707AB53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EA16-3FE3-4818-BD1C-D2401385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CDE2-FA30-4F67-8BF3-F9757C8B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04EE5-6AEE-44BE-8875-6F28F2EA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C64-1C68-4299-8724-2998A2B2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165-8A1E-4EA6-8E13-1D692D3C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16D-81EF-48FE-B086-14A47422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DCD-642C-44BE-B662-99B0F462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949-93FE-43DC-97D9-2B50EC4F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9E68-F044-4A6A-8436-4AA93BE12E45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4764-2DC1-4FE5-925A-234C34ADE54D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D37C-8BFC-43FD-8454-06316EC4F0B8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B336-D935-40C1-960F-865211B99266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323F-1CD4-4D05-B95E-99A55A70BEA1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FEF3-FF75-4290-AB4E-5D3C9A2B9D6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C9D2-DE5A-4EE1-9F3C-AF7C2EB384F9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628C-0A29-4DDA-9E9E-2CD6A5F4057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a022"/>
                </a:solidFill>
                <a:latin typeface="Century Gothic"/>
              </a:rPr>
              <a:t>With Appreciati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201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From the Laidlaw Librar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3" descr="screenbooks.png"/>
          <p:cNvPicPr/>
          <p:nvPr/>
        </p:nvPicPr>
        <p:blipFill>
          <a:blip r:embed="rId1"/>
          <a:stretch/>
        </p:blipFill>
        <p:spPr>
          <a:xfrm>
            <a:off x="6269040" y="1935000"/>
            <a:ext cx="16606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lann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Century Gothic"/>
              </a:rPr>
              <a:t>Converse with teachers and staf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Century Gothic"/>
              </a:rPr>
              <a:t>Where is the biggest need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Century Gothic"/>
              </a:rPr>
              <a:t>Willing to collaborat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Closer look at collection through analysi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Find weak are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Patron interest – student and staf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1" name="Picture 7" descr="screenteacherred.png"/>
          <p:cNvPicPr/>
          <p:nvPr/>
        </p:nvPicPr>
        <p:blipFill>
          <a:blip r:embed="rId1"/>
          <a:stretch/>
        </p:blipFill>
        <p:spPr>
          <a:xfrm>
            <a:off x="3697200" y="415800"/>
            <a:ext cx="18972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700"/>
                </a:solidFill>
                <a:latin typeface="Century Gothic"/>
              </a:rPr>
              <a:t>Our School Communit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High achieving, high interest, high expectations across the boa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4c600"/>
                </a:solidFill>
                <a:latin typeface="Century Gothic"/>
              </a:rPr>
              <a:t>2010 - 95.4% students met or exceeded Illinois standards on standardized test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6b43"/>
                </a:solidFill>
                <a:latin typeface="Century Gothic"/>
              </a:rPr>
              <a:t>Made the “Top 50 Schools in IL” lis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4c600"/>
                </a:solidFill>
                <a:latin typeface="Century Gothic"/>
              </a:rPr>
              <a:t>Ranked 28/ 2,192 in the stat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5" descr="illinois.png"/>
          <p:cNvPicPr/>
          <p:nvPr/>
        </p:nvPicPr>
        <p:blipFill>
          <a:blip r:embed="rId1"/>
          <a:stretch/>
        </p:blipFill>
        <p:spPr>
          <a:xfrm>
            <a:off x="6637320" y="4089240"/>
            <a:ext cx="163656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94880" y="947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ollection Development Policy District 101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Lifelong lear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Support and enrich the educational progra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Diversity of appea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Take into consideration varied interests and abiliti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Stimulate growth in factual knowled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Well-balanced coverage of subjec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Personal need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14" descr="images.jpeg"/>
          <p:cNvPicPr/>
          <p:nvPr/>
        </p:nvPicPr>
        <p:blipFill>
          <a:blip r:embed="rId1"/>
          <a:stretch/>
        </p:blipFill>
        <p:spPr>
          <a:xfrm>
            <a:off x="7337520" y="5210280"/>
            <a:ext cx="965160" cy="928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5" descr="images-1.jpeg"/>
          <p:cNvPicPr/>
          <p:nvPr/>
        </p:nvPicPr>
        <p:blipFill>
          <a:blip r:embed="rId2"/>
          <a:stretch/>
        </p:blipFill>
        <p:spPr>
          <a:xfrm>
            <a:off x="6600960" y="1436760"/>
            <a:ext cx="1325520" cy="993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6" descr="images-2.jpeg"/>
          <p:cNvPicPr/>
          <p:nvPr/>
        </p:nvPicPr>
        <p:blipFill>
          <a:blip r:embed="rId3"/>
          <a:stretch/>
        </p:blipFill>
        <p:spPr>
          <a:xfrm>
            <a:off x="7284960" y="3067200"/>
            <a:ext cx="115740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2920" y="1007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09465"/>
                </a:solidFill>
                <a:latin typeface="Century Gothic"/>
              </a:rPr>
              <a:t>Overview &amp; Analysi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Century Gothic"/>
              </a:rPr>
              <a:t>700’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Century Gothic"/>
              </a:rPr>
              <a:t>The Ar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6b43"/>
                </a:solidFill>
                <a:latin typeface="Century Gothic"/>
              </a:rPr>
              <a:t>Draw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6b43"/>
                </a:solidFill>
                <a:latin typeface="Century Gothic"/>
              </a:rPr>
              <a:t>Paint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6b43"/>
                </a:solidFill>
                <a:latin typeface="Century Gothic"/>
              </a:rPr>
              <a:t>Music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6b43"/>
                </a:solidFill>
                <a:latin typeface="Century Gothic"/>
              </a:rPr>
              <a:t>Performing Ar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68280" y="2313000"/>
            <a:ext cx="4635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844d"/>
                </a:solidFill>
                <a:latin typeface="Century Gothic"/>
              </a:rPr>
              <a:t>1993 average ag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844d"/>
                </a:solidFill>
                <a:latin typeface="Century Gothic"/>
              </a:rPr>
              <a:t>2</a:t>
            </a:r>
            <a:r>
              <a:rPr b="0" lang="en-US" sz="2200" spc="-1" strike="noStrike" baseline="30000">
                <a:solidFill>
                  <a:srgbClr val="7e844d"/>
                </a:solidFill>
                <a:latin typeface="Century Gothic"/>
              </a:rPr>
              <a:t>nd</a:t>
            </a:r>
            <a:r>
              <a:rPr b="0" lang="en-US" sz="2200" spc="-1" strike="noStrike">
                <a:solidFill>
                  <a:srgbClr val="7e844d"/>
                </a:solidFill>
                <a:latin typeface="Century Gothic"/>
              </a:rPr>
              <a:t> oldest classification in our librar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844d"/>
                </a:solidFill>
                <a:latin typeface="Century Gothic"/>
              </a:rPr>
              <a:t>Follet Library Resource Recommends 5% represent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566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usic Purcha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02212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Music from the Complete Book of Rhymes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Songs, Poems and Chants  (sound recording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685a"/>
                </a:solidFill>
                <a:latin typeface="Century Gothic"/>
              </a:rPr>
              <a:t>Alphabet of Music (eBook)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Those Amazing Musical Instruments! Your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Guide to the Orchestra Through Sound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and Stories (hardcover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685a"/>
                </a:solidFill>
                <a:latin typeface="Century Gothic"/>
              </a:rPr>
              <a:t>The A to Z Symphony (video recording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Who was Wolfgang Amadeus Mozart? (hardcover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 rot="513600">
            <a:off x="7262280" y="1017360"/>
            <a:ext cx="1113120" cy="1384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2"/>
          <a:stretch/>
        </p:blipFill>
        <p:spPr>
          <a:xfrm>
            <a:off x="6966000" y="2933640"/>
            <a:ext cx="1200240" cy="1003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3"/>
          <a:stretch/>
        </p:blipFill>
        <p:spPr>
          <a:xfrm rot="20931600">
            <a:off x="6656400" y="4567320"/>
            <a:ext cx="1714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75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rt Purcha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03832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4d00"/>
                </a:solidFill>
                <a:latin typeface="Century Gothic"/>
              </a:rPr>
              <a:t>13 Paintings Children Should Know -Wenze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6b43"/>
                </a:solidFill>
                <a:latin typeface="Century Gothic"/>
              </a:rPr>
              <a:t>Cool Sculpture: The Art of Creativity for Kids -Hans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4d00"/>
                </a:solidFill>
                <a:latin typeface="Century Gothic"/>
              </a:rPr>
              <a:t>Making Amazing Art! 40 Activities Using the 7 Elements of Art - Henr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6b43"/>
                </a:solidFill>
                <a:latin typeface="Century Gothic"/>
              </a:rPr>
              <a:t>Artist to Artist: 23 Major Illustrators Talk to Children About Their Art – Philomel Book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4d00"/>
                </a:solidFill>
                <a:latin typeface="Century Gothic"/>
              </a:rPr>
              <a:t>Global Art: Activities, Projects, and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4d00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bf4d00"/>
                </a:solidFill>
                <a:latin typeface="Century Gothic"/>
              </a:rPr>
              <a:t>Inventions from Around the World – Koh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6991200" y="820800"/>
            <a:ext cx="1422720" cy="1625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6708600" y="5159520"/>
            <a:ext cx="16257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7887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a022"/>
                </a:solidFill>
                <a:latin typeface="Century Gothic"/>
              </a:rPr>
              <a:t>Thank you…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Art is my favorite thing to do because I can use my imagination…”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6b43"/>
                </a:solidFill>
                <a:latin typeface="Century Gothic"/>
              </a:rPr>
              <a:t>Danny 4</a:t>
            </a:r>
            <a:r>
              <a:rPr b="0" lang="en-US" sz="1600" spc="-1" strike="noStrike" baseline="30000">
                <a:solidFill>
                  <a:srgbClr val="956b43"/>
                </a:solidFill>
                <a:latin typeface="Century Gothic"/>
              </a:rPr>
              <a:t>th</a:t>
            </a:r>
            <a:r>
              <a:rPr b="0" lang="en-US" sz="1600" spc="-1" strike="noStrike">
                <a:solidFill>
                  <a:srgbClr val="956b43"/>
                </a:solidFill>
                <a:latin typeface="Century Gothic"/>
              </a:rPr>
              <a:t> grader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73120" y="2134800"/>
            <a:ext cx="34196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c600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94c600"/>
                </a:solidFill>
                <a:latin typeface="Century Gothic"/>
              </a:rPr>
              <a:t>having fun and singing at school makes me be in a happy mood…”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4c600"/>
                </a:solidFill>
                <a:latin typeface="Century Gothic"/>
              </a:rPr>
              <a:t>Annie 2</a:t>
            </a:r>
            <a:r>
              <a:rPr b="0" lang="en-US" sz="1600" spc="-1" strike="noStrike" baseline="30000">
                <a:solidFill>
                  <a:srgbClr val="94c600"/>
                </a:solidFill>
                <a:latin typeface="Century Gothic"/>
              </a:rPr>
              <a:t>nd</a:t>
            </a:r>
            <a:r>
              <a:rPr b="0" lang="en-US" sz="1600" spc="-1" strike="noStrike">
                <a:solidFill>
                  <a:srgbClr val="94c600"/>
                </a:solidFill>
                <a:latin typeface="Century Gothic"/>
              </a:rPr>
              <a:t> grader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tretch/>
        </p:blipFill>
        <p:spPr>
          <a:xfrm>
            <a:off x="2986200" y="3962520"/>
            <a:ext cx="2087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3:00:58Z</dcterms:created>
  <dc:creator>Western Springs</dc:creator>
  <dc:description/>
  <dc:language>en-US</dc:language>
  <cp:lastModifiedBy>Western Springs</cp:lastModifiedBy>
  <dcterms:modified xsi:type="dcterms:W3CDTF">2011-11-16T21:12:23Z</dcterms:modified>
  <cp:revision>44</cp:revision>
  <dc:subject/>
  <dc:title>With Appreciation</dc:title>
</cp:coreProperties>
</file>